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652-6ECB-4C29-BF9A-11C8223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6C6-2363-497C-A707-AFCD33A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6C2-9721-40DE-B891-95711D55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2AD-FF55-4C0C-A344-2E6E8AAD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3D7-A86A-4BE8-B346-2AE40801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D74-0ECB-4C46-AA23-6AEA548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251-9F62-4D50-85DD-9D1842B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41F-55C5-4F0E-BDAE-7D9A70BA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9B7-2867-47A5-91A6-7C2BE56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5B0-A1DE-45B8-973B-71B4B88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6E6-83BD-4D56-8F87-36A5703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941-4B57-41F4-8BDB-CD828F6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9C7-83C7-4231-80E1-20515BD31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couple used up all their money to seek their 5-year-old son, who got lost month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up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筋疲力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 have used up all the c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diers were used up after the long ba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２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ly later that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本句为强调句，原句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强调句的结构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t is / was … that / who 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 that/who saw a film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主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 film that I saw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宾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ast night that I saw a film in the Youth Palace 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时间状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n the Youth Palace that I saw a film last night.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地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ecause he mother was ill that she didn’t go with u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原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…only by discovering what we do best can we hope to reach our goals and truly make a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倒装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常语序应该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o reach our goals and truly make a difference by discovering what we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倒装的目的是为了加强语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n did I realize its impi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this way can we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when people lose freedom do they know it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13:32Z</dcterms:modified>
  <cp:revision>2</cp:revision>
  <dc:subject/>
  <dc:title>PowerPoint Presentation</dc:title>
</cp:coreProperties>
</file>